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EF1-CFAC-417F-933F-FD0F506B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0C1-DFD4-4A26-8638-1401E55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170-421E-42AC-81ED-61371486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315-7EB3-4F8A-8F74-48E5B55F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B82B-F382-45D5-AA09-E7AFB147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8A22-008E-4D34-A4F4-44E70F0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D92A-6C81-4B34-A899-7DE8B38C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7A34-459C-4A21-AD42-4082FD5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6C15-9468-4BC8-B5B0-805948A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9A83-B3E4-4665-911C-EEC5FF7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ED3-4A74-47B6-BC71-CF18A75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217-9758-46AD-9042-FCC8A526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AD4-746A-45FF-A34D-6740EDD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35F7-F7CF-432C-863B-6484151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222F-FE17-476D-A220-1A1D9779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B7A2-BB3A-4ACD-8704-2081EAC9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61CC-FC7C-4898-BD40-19561165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0B4-26CC-45C7-B19F-9CA057A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6FF-4A39-489C-BA24-F3EF02D3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7B7-A6C4-4DEF-8FE2-CC2B07D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4DA-8E6F-4F8D-9960-5543F04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E1A-DEF7-4E1F-B31D-E5EFAA89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F14-AB7E-4004-AFF2-D17EAF8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1FD-7A7D-454C-9394-0312B20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659-8F19-4D27-AF5E-8C7F86D71D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01E6-1231-4932-B2BB-9904B636CA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structuras digitales en FPG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pítulo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hibición en vid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r. René de J. Romero Tronc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uente FIFO secuencial de escri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onamiento similar al acceso aleatorio pero ahora solamente se necesita la dirección puntero de los datos y no dirección por dire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(Realizar planteamiento a bloques de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uente FIFO secuencial de lec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siste en transferir la información de una línea completa desde la memoria externa a una memoria interna para incrementar el tiempo de disponibilidad para la escritura de d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escritura puede o no tener un puente FIFO de acceso aleatorio o secuen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5.5 Manejo del video y memoria dinám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ada la naturaleza de los accesos a memoria dinámica, es necesario utilizarla mediante puentes FIFO tanto para lectura como escri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lectura es secuencial por lí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escritura puede ser secuencial o aleat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Realizar planteamiento de bloques del siste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Realice la sínt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áctica 2 con memoria está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áctica 3 con memoria diná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5.1 Manejador V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5.2 Manejador L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5.3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nejo directo del vid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5.4 Manejo del video y memoria está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5.5 Manejo del video y memoria diná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5.1 Manejador VG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dificar el manejador VGA para que incluya señalización sincronizada de acceso a la mem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5.2 Manejador LC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iguración del control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áginas 10 a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del manejador L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i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figu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e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5.3 Manejo directo del vide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200400"/>
            <a:ext cx="2667240" cy="1981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828800"/>
            <a:ext cx="4800600" cy="48006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657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800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92200" y="31654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2200" y="3699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15880" y="43084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362320"/>
            <a:ext cx="380988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ideo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410080"/>
            <a:ext cx="380988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dor de patr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38480" y="4800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38480" y="48006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91120" y="3657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62160" y="41148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962520" y="3276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2767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2767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2767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2767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1840" y="3352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3960" y="3352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5360" y="3352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7120" y="3352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4880" y="1828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P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aracterísticas gener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y útil cuando la exhibición tiene características estáticas de poca vari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ráficas con elementos fi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ámetros fi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requiere memoria ex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llegar a requerir mucha memori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diseño de la FSM puede llegar a ser muy comple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fícilmente puede ser escalado o importado a otra apl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5.4 Manejo del video y memoria estát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 proceso de lectura y envío de datos al video no puede ser interrumpido durante la exhibición ac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critura síncrona con señ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ente FIFO aleatorio de escri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ente FIFO secuencial de escri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ente FIFO secuencial de le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scritura síncrona con señal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tiene acceso a la escritura de un pixel cuando el sistema de acceso de lectura no se encuentra ocupado (ENV y EN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requiere memori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interfaz transfiere el dato de escritura cuando se encuentre libre la mem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sistema maestro tiene que esperar a que el dato sea transferido por la interf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Realizar planteamiento a bloques del siste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uente FIFO aleatorio de escri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iste un puente FIFO entre el sistema maestro y la interf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interfaz toma el dato y dirección del pixel desde la FIFO y lo transfiere a la memoria externa cuando el sistema de lectura lo perm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sistema maestro puede transferir varios datos sin tener que esperar a la interfaz, hasta que la FIFO se l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Realizar planteamiento a bloques del siste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20:23:42Z</dcterms:created>
  <dc:creator>René</dc:creator>
  <dc:description/>
  <dc:language>en-US</dc:language>
  <cp:lastModifiedBy>René</cp:lastModifiedBy>
  <dcterms:modified xsi:type="dcterms:W3CDTF">2008-01-04T20:30:07Z</dcterms:modified>
  <cp:revision>16</cp:revision>
  <dc:subject/>
  <dc:title>Estructuras digitales en FPGA</dc:title>
</cp:coreProperties>
</file>