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8BD-CB98-40D5-AAD4-B3E2166D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379-0F44-41FE-9532-55C12EFE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1A7-98A9-4E5C-8036-5CC1DBFE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90B-1D82-47D9-804C-2148E4E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1D35-79D0-4AC5-BB70-DCBE571C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0941-55C0-4296-AF7A-270BBCC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85D-D42B-465A-869B-FC3208A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653A-30D7-4278-9AFD-2756798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915-9681-43D7-9C62-8BE91018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5E7-CAC8-41C5-989B-EBE4908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0283-F587-4FE8-B3A9-8E2D7F27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8B4-C35D-4EFC-9A4B-3B07BDFB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499-D773-455B-A393-97540B2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4B64-BEEE-47CE-85D3-3A0D5B0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C168-20C2-4415-BE61-03B4865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F0E9-1B80-43BE-AA91-721B61A1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9D4-8527-40F4-87E1-68F9E415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591-710F-4697-B3FA-8846D73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1F8-D763-400A-8AC9-38D1ABDE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4BD-BA2F-4C3D-9088-E805A379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6AC-417B-4C69-B87C-1F36B16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8B-007F-4D57-8A05-7A03944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CB3-4D47-4E47-AFB3-0922166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80F-66B2-4615-872E-C5DEAC06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3EB7-3E3B-4E4C-A148-DBE857E9E6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7A7-3139-49F1-ABE6-B7A6C6E5A1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Estructuras digitales en FPG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34290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ítul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tura de imá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r. René de J. Romero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6.3 Video compuest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rfaz de configur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ada en tres señales seriales (reloj, datos y acc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iene los registros de config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ipo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rfaz de im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ada en VH-R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olución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de salida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Contenid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1 Aspect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2 Cámara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3 Vide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6.1 Aspectos general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s sistemas de captura digital de imágenes están basados en circuitos integrados especializados que integran la conversión A/D y proporcionan la información de la imagen en forma digital de acuerdo con un patrón estándar V-H que puede ser config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Configuració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o sistema de captura de imágenes digitales tiene una interfaz de configuración mediante la cual se seleccionan los parámetros de la 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133720"/>
            <a:ext cx="358128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z de config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05320"/>
            <a:ext cx="2133360" cy="228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z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3505320"/>
            <a:ext cx="914400" cy="228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7816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8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2296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Parámetros tipicos de la configuració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ormato (color, escala de gri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po de imagen (VGA, NTSC, P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juste de color, brillo, contras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rol de z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figuración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Interfaz de configuració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SM típicamente serial que se encarg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icializar al circuito integrado de cap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porcionar los valores de configuración de los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juste de la 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Interfaz de image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iene generalmente las siguientes señ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G_CLK: Reloj de sincronía de 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G_HSC: Sincroní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G_VSC: Sincronía ver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G_DAT: Dato del pixel, componente de color, componente de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Proceso general de captura de image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icialización del circuito contro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guración paramétrica del circuito contro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ptura de la imagen mediante la trama digital gen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macenamiento temporal en memoria in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macenamiento en memoria externa m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00"/>
                </a:solidFill>
                <a:latin typeface="Arial Black"/>
              </a:rPr>
              <a:t>6.2 Cámara digit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rfaz de configur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ada en dos señales seriales (reloj y da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iene los registros de config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ipo Baye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erfaz de im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ada en VH-R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olución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de salida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40:34Z</dcterms:created>
  <dc:creator>René</dc:creator>
  <dc:description/>
  <dc:language>en-US</dc:language>
  <cp:lastModifiedBy>René</cp:lastModifiedBy>
  <dcterms:modified xsi:type="dcterms:W3CDTF">2008-01-07T00:09:29Z</dcterms:modified>
  <cp:revision>6</cp:revision>
  <dc:subject/>
  <dc:title>Estructuras digitales en FPGA</dc:title>
</cp:coreProperties>
</file>