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499-FD09-4736-B48E-1AFFC427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5AD-472A-47D5-A2D3-2C116F94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506-6B44-4400-8B83-43C3399E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D06-99AC-4C18-ADA7-A79DE357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B0D3-77EA-430F-B0FE-27FCA845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479D-FBE3-468A-A6C6-70AD06FD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328A-A42C-45EA-B57F-ADAE3CF5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C436-02AB-40D1-B7D9-D3B8C708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70B7-0A86-478F-B356-6669F1A3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17680" y="220680"/>
            <a:ext cx="8596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3626-27DE-4762-BA1A-7AE5F478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44C6-6AC8-4472-9B48-6A90E836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59D-3108-42FD-B26C-BCD4691E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28B6-4EBE-45D2-A441-FA707874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3260-9B05-40F9-A644-EFE05457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F039-E832-4CBD-A12F-9605AF4A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F1E5-27CF-4481-9E0B-AD1A5F2E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4CAF-FE48-450E-A36E-7B13B78C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52D-91FE-44B9-BDC8-99F1246F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DB3-C77E-4642-9D1F-3F406651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704-6CFD-41C3-B065-ACF67063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220680"/>
            <a:ext cx="8596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DE5-3946-4552-A237-8EC2F0DE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4F9-6822-4108-AA30-9021B200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790-E370-4D7E-B883-C7B1F765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8B5-2DCC-49B3-9AF6-E0184508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8F02-872D-4107-9967-6CD06A12F133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14800"/>
            <a:ext cx="77724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F519-79B4-46AD-8DCE-18F0E5275AB1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14800"/>
            <a:ext cx="77724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Estructuras digitales con FPGA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Capítulo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Memorias Exter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Dr. René de J. Romero Tronco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Otros ejemplos de interfaz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Presentar otros ejemplos de interfaz con SRAM que incluya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Múltiples fuentes de da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Múltiples destinos de da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ombinación de fuentes y destin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SDRAM DE-2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AM dinámica estándar organizada en 4 bancos de 1M x 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Síncro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Bus bidirec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Acceso orientado a paque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Controlada por instruccio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equiere control de refrescado e inicializ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IS42S16400D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2057400"/>
            <a:ext cx="1904760" cy="4572000"/>
          </a:xfrm>
          <a:prstGeom prst="re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8240" y="213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0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57400" y="2514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BA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6477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6248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8440" y="586728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4343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480" y="4343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56080" y="408456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DQ0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67360" y="312408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8400" y="388620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3800" y="350532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4800" y="426708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525780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UD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59200" y="48769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D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Señales de la SDRAM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DQM y UDQM: Selector de byte bajo y al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Q0-15: Bus bidireccional de da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A0-11: Entrada de direcciones y código operativo de la instrucción de carga de registro de mo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0-A11: Renglón activo (RAS). Cada banco tiene 4096 rengl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0-A7: Inicio de columna activa (CAS). Cada renglón tiene 256 column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0-A11: Código de carga de registro de mo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Código del registro de modo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11-A10: reservado, debe ser 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9: Módo de acceso. 0 por bloque. 1 acceso a una sola locali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8-A7: reservado, debe ser 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6-A4: latencia de acceso. 010 latencia de 2 ciclos. 011 latencia de 3 ciclos. Otros valores no están permit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3: acceso por bloque. 0 secuencial. 1 entrela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2-A0: Tamaño del bloque de transferenci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000   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001    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010    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011    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11      Página completa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(256 dat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7680" y="220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BA0-1: Selección de banco activo (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S: Habilitación de circu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RAS: Habilitación de rengl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AS: Habilitación de colum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WE: Habilitación de escrit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S, RAS, CAS y WE conforman la instrucción de acce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Instrucciones de acceso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6680" y="2057400"/>
          <a:ext cx="7772400" cy="434340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  <a:gridCol w="838440"/>
                <a:gridCol w="441936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r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E (banco y rengl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D (iniciar lectura de bloq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 (iniciar escritura de bloq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RST (terminar transferencia de bloq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CHARGE (inhibir columna activ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FRESH (refrescado inter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AD (cargar registro de mo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Operación general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Primeramente se debe realizar un proceso de inicialización de la SDRAM para que pueda ser utiliz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Al menos cada 64ms se deberán ejecutar 4096 ciclos de refrescado con la instrucción REFRE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l acceso a la memoria tiene muchos modos de operación pero solamente los más importantes van a ser explic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Formas de onda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Inicialización y registro de modo de oper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Ciclo de auto-refres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ectura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ectura pagi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scritura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Escritura pagi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Inicialización (pag. 36)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spués de la alimentación se debe esperar por al menos 100us con la instrucción NOP antes de utilizar la memo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n seguida se debe aplicar un PRECHARGE a todos los bancos para desactivarlos (A10 = 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A continuación se deben aplicar al menos dos ciclos de REFRE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Finalmente se debe aplicar una instrucción LOAD para configurar el registro de mo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 memoria está lista para ser utiliz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Memorias externa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4.1 S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-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4.2 SD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-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Auto refrescado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spués de cada instrucción de auto refrescado se debe ejecutar un N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sto implica que durante 8192 ciclos de reloj la memoria es inacces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os ciclos de refrescado pueden ser distribuidos en todo el periodo de 64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on un reloj de 50 MHz y un periodo de refrescado de 60ms se tienen 3’000,000 de ciclos de relo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8192 ciclos de reloj equivalen a 163.84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Acceso general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Antes de acceder a una localidad de memoria se necesita desactivar el renglón mediante una instrucción PRECHARGE (recomendado en acceso aleatorio) o mediante un Auto-PRECHARGE (recomendado para página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Una vez inactiva la columna previa, se necesita dar la instrucción ACTIVE para habilitar el renglón dese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Lectura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os datos se encontrarán disponibles en el borde de disparo positivo, 2 ó 3 ciclos de latencia después de la instrucción de lectura, según programado en el registro de mo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 dirección A0-7 indica el inicio del acce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Páginas 41 a 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Escritura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os datos se transfieren desde el primer borde de disparo del reloj donde se realiza la instrucción WR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La dirección A0-7 indica el inicio del acc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Páginas 48 a 5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Interfaz de acceso simple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ealizar el diseño de una interfaz de acceso simple y aleatorio a la SD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Interfaz de acceso paginado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ealizar el diseño de una interfaz de acceso paginado y secuencial a la SD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Tarea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Prueba las interfaces a SDRAM propuestas en el presente capítu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SRAM DE-2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RAM estática estándar organizada en 256k x 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Asíncro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Bus bidirec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Acceso aleator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Controlada por b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IS61LV25616AL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2057400"/>
            <a:ext cx="2438280" cy="4495680"/>
          </a:xfrm>
          <a:prstGeom prst="re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886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267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648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5029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5410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4191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15000" y="4191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7920" y="2179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0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9880" y="3657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86360" y="40384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24800" y="441972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4480" y="48006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240" y="51814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38360" y="393228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IO0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Señale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A0-A17: bus de direcciones con capacidad de 256k localid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IO0-15: bus de datos de 16 b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E: Habilitación de circu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WE: Habilitación de escrit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OE: Habilitación de lect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B: Habilitación de byte baj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UB: Habilitación de byte al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Acceso a la RAM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2438280"/>
          <a:ext cx="8686800" cy="324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438280"/>
                    <a:ext cx="868680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Interfaz básica RAM y FPGA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1447920"/>
          <a:ext cx="6107040" cy="515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447920"/>
                    <a:ext cx="610704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000000"/>
                </a:solidFill>
                <a:latin typeface="Comic Sans MS"/>
              </a:rPr>
              <a:t>Descripción VHDL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910800" y="2030400"/>
            <a:ext cx="51184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library IEE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use IEEE.std_logic_1164.al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entity Interfaz_SRAM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generic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n : integer :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port(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SRM_ADD : in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std_logic_vector(n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SRM_CEN : in   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SRM_UBY : in   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SRM_LBY : in   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SRM_WRE : in   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SRM_RDE : in   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SRM_DOT : in    std_logic_vector(n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SRM_DIN : out   std_logic_vector(n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ADD : out   std_logic_vector(n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CE  : out  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UB  : out  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LB  : out  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WE  : out  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OE  : out  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IOD : inout std_logic_vector(n-1 downto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end Interfaz_SRA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13760" y="1143000"/>
            <a:ext cx="63986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architecture Simple of Interfaz_SRAM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signal SRM_DIR :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Control: process(SRM_ADD,SRM_CEN,SRM_UBY,SRM_LBY,SRM_WRE,SRM_R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ADD &lt;= SRM_AD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CE  &lt;= SRM_C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UB  &lt;= SRM_UB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LB  &lt;= SRM_LB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WE  &lt;= SRM_W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OE  &lt;= SRM_RD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SRM_DIR &lt;= NOT(SRM_RDE) OR SRM_CEN OR SRM_W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end process Contro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Tres_estados: process(SRM_DOT,SRM_DIR,RAM_I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if (SRM_DIR='0')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IOD &lt;= SRM_DO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RAM_IOD &lt;= (others =&gt; 'Z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SRM_DIN &lt;= RAM_IO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end process Tres_estado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urier New"/>
              </a:rPr>
              <a:t>end Simpl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21:38:37Z</dcterms:created>
  <dc:creator>René</dc:creator>
  <dc:description/>
  <dc:language>en-US</dc:language>
  <cp:lastModifiedBy>René</cp:lastModifiedBy>
  <dcterms:modified xsi:type="dcterms:W3CDTF">2008-01-03T20:22:31Z</dcterms:modified>
  <cp:revision>26</cp:revision>
  <dc:subject/>
  <dc:title>Estructuras digitales con FPGA</dc:title>
</cp:coreProperties>
</file>