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57C-C0C8-4330-B016-FF485E8C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BC6-937F-4A25-8E54-692D8277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C3B-1C7F-4EE4-A1AD-224EE722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79F-8D1F-44A6-8F34-9E6E3DF9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908-1F6E-4872-882F-68937076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7A8F-AA61-4BC7-8CFB-0D40655D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2F91-D3FF-492E-ABAB-0F91781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E187-ADB6-47D4-B3A2-8A2040E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CC9-53BC-4D71-B6CF-B7814B7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E49-A4CF-42AA-9347-56F7D95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886C-FA3A-4C0B-B69A-5617A38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0E5-7C15-4A26-B8AA-43B3F2A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C83F-78B7-44C7-BBB9-8C76CD1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FD7-7F2D-42EC-A065-A70E5C8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8C12-88FF-49C3-B787-AD70AE5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CCC-29EB-426B-B302-7A9DA128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5F5-5755-4A60-BE8F-75E3025F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D12-AB06-45EA-B012-DA708CF2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FFC-506F-46D5-BEAF-26FD11E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50F-1DB8-415D-9AFA-912F0608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BAE-14A0-49CF-A97E-A4101A18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C38-22AD-40D0-9B92-2E592A6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CE5-5815-48E5-AB45-DEAC749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D0B-B802-49A7-80B1-DBE291D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1D32-3D6B-4C0C-B14F-A1CFDE64A8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0088-659F-479F-8ABB-1CB410E240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structuras digitales con FP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r. René de J. Romero Tronc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últiples fuentes con múltiples destinos difer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35268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98108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35268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502920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7" idx="3"/>
            <a:endCxn id="140" idx="1"/>
          </p:cNvCxnSpPr>
          <p:nvPr/>
        </p:nvCxnSpPr>
        <p:spPr>
          <a:xfrm>
            <a:off x="3962160" y="3809520"/>
            <a:ext cx="1143720" cy="1677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2" name=""/>
          <p:cNvCxnSpPr>
            <a:stCxn id="137" idx="3"/>
            <a:endCxn id="138" idx="1"/>
          </p:cNvCxnSpPr>
          <p:nvPr/>
        </p:nvCxnSpPr>
        <p:spPr>
          <a:xfrm flipV="1">
            <a:off x="3962160" y="2437920"/>
            <a:ext cx="1143720" cy="13723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3" name=""/>
          <p:cNvCxnSpPr>
            <a:stCxn id="137" idx="3"/>
            <a:endCxn id="139" idx="1"/>
          </p:cNvCxnSpPr>
          <p:nvPr/>
        </p:nvCxnSpPr>
        <p:spPr>
          <a:xfrm>
            <a:off x="3962160" y="3809520"/>
            <a:ext cx="11437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4" name=""/>
          <p:cNvSpPr/>
          <p:nvPr/>
        </p:nvSpPr>
        <p:spPr>
          <a:xfrm>
            <a:off x="1676520" y="198108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02920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40" idx="1"/>
          </p:cNvCxnSpPr>
          <p:nvPr/>
        </p:nvCxnSpPr>
        <p:spPr>
          <a:xfrm>
            <a:off x="3962160" y="5486040"/>
            <a:ext cx="11437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7" name=""/>
          <p:cNvCxnSpPr>
            <a:stCxn id="144" idx="3"/>
            <a:endCxn id="138" idx="1"/>
          </p:cNvCxnSpPr>
          <p:nvPr/>
        </p:nvCxnSpPr>
        <p:spPr>
          <a:xfrm>
            <a:off x="3962160" y="2437920"/>
            <a:ext cx="11437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últiples fuentes con múltiples destinos igua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365760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28600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3"/>
            <a:endCxn id="149" idx="3"/>
          </p:cNvCxnSpPr>
          <p:nvPr/>
        </p:nvCxnSpPr>
        <p:spPr>
          <a:xfrm flipV="1">
            <a:off x="5715000" y="4114080"/>
            <a:ext cx="2160" cy="167724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53" name=""/>
          <p:cNvCxnSpPr>
            <a:stCxn id="149" idx="3"/>
            <a:endCxn id="150" idx="3"/>
          </p:cNvCxnSpPr>
          <p:nvPr/>
        </p:nvCxnSpPr>
        <p:spPr>
          <a:xfrm flipV="1">
            <a:off x="5715000" y="2742840"/>
            <a:ext cx="2160" cy="1372320"/>
          </a:xfrm>
          <a:prstGeom prst="bentConnector3">
            <a:avLst>
              <a:gd name="adj1" fmla="val 14400000"/>
            </a:avLst>
          </a:prstGeom>
          <a:ln cap="sq" w="1260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0" idx="3"/>
            <a:endCxn id="150" idx="1"/>
          </p:cNvCxnSpPr>
          <p:nvPr/>
        </p:nvCxnSpPr>
        <p:spPr>
          <a:xfrm flipH="1">
            <a:off x="3428640" y="2743200"/>
            <a:ext cx="2286720" cy="2160"/>
          </a:xfrm>
          <a:prstGeom prst="bentConnector5">
            <a:avLst>
              <a:gd name="adj1" fmla="val -9998"/>
              <a:gd name="adj2" fmla="val -43200000"/>
              <a:gd name="adj3" fmla="val 109998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0" idx="1"/>
            <a:endCxn id="149" idx="1"/>
          </p:cNvCxnSpPr>
          <p:nvPr/>
        </p:nvCxnSpPr>
        <p:spPr>
          <a:xfrm flipH="1" flipV="1" rot="10800000">
            <a:off x="3428640" y="2742840"/>
            <a:ext cx="2160" cy="137232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49" idx="1"/>
            <a:endCxn id="151" idx="1"/>
          </p:cNvCxnSpPr>
          <p:nvPr/>
        </p:nvCxnSpPr>
        <p:spPr>
          <a:xfrm flipH="1" flipV="1" rot="10800000">
            <a:off x="3428640" y="4113720"/>
            <a:ext cx="2160" cy="16772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ransferencia de registr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écnicas para llevar a cabo la conectividad requerida por el datapath y 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p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ansferencia conmut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ada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alida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ada común y salida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últiples puertos (parale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ipeline y ani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240" y="3048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560" y="5943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i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600200"/>
          <a:ext cx="845820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582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" y="4419720"/>
          <a:ext cx="838188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8381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ransferencia conmut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1905120"/>
          <a:ext cx="868680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ntrada común        Salida comú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1676520"/>
          <a:ext cx="292428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2924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76920" y="1676520"/>
          <a:ext cx="3571920" cy="46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357192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ntrada común y salida comú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362320" y="1752480"/>
          <a:ext cx="45529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5529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últiples puertos (paralelo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19520" y="1523880"/>
          <a:ext cx="366696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366696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4 Floor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binación de las técnicas de transferencia de registros para resolver el flujo de información dictado por el datapath aplicado a un problema especí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5 Memorias como puente de transfere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incipales problemas en la transferencia de inform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es diferentes de proces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sponibilidad de los datos en diferentes tiem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compatibilidad de transfe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terrupciones de los procesos por sistemas escla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delo general de interfa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delo de interfaz diná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3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tapath y transferencia de regis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oor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morias como puente de transfer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DC/DAC -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7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hibidor dinámico de 7 seg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8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hibidor dinámico de LCD de tex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emorias pue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eato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ceso a cualquier dirección en cualquier momento. Requiere bus de dire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cuen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ceso secuencial predefinido. No requiere bus de dire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6 ADC/DAC - F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002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6002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600200"/>
            <a:ext cx="99036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16002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16002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7" idx="3"/>
            <a:endCxn id="188" idx="1"/>
          </p:cNvCxnSpPr>
          <p:nvPr/>
        </p:nvCxnSpPr>
        <p:spPr>
          <a:xfrm>
            <a:off x="1676520" y="20570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3" name=""/>
          <p:cNvCxnSpPr>
            <a:stCxn id="188" idx="3"/>
            <a:endCxn id="189" idx="1"/>
          </p:cNvCxnSpPr>
          <p:nvPr/>
        </p:nvCxnSpPr>
        <p:spPr>
          <a:xfrm>
            <a:off x="3885840" y="20570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4" name=""/>
          <p:cNvCxnSpPr>
            <a:stCxn id="189" idx="3"/>
            <a:endCxn id="190" idx="1"/>
          </p:cNvCxnSpPr>
          <p:nvPr/>
        </p:nvCxnSpPr>
        <p:spPr>
          <a:xfrm>
            <a:off x="5181120" y="20570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5" name=""/>
          <p:cNvCxnSpPr>
            <a:stCxn id="190" idx="3"/>
            <a:endCxn id="191" idx="1"/>
          </p:cNvCxnSpPr>
          <p:nvPr/>
        </p:nvCxnSpPr>
        <p:spPr>
          <a:xfrm>
            <a:off x="7391520" y="20570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96" name=""/>
          <p:cNvSpPr/>
          <p:nvPr/>
        </p:nvSpPr>
        <p:spPr>
          <a:xfrm>
            <a:off x="228600" y="20574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20574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320" y="28195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IR de un solo ca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1148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1148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114800"/>
            <a:ext cx="99036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41148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41148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3"/>
            <a:endCxn id="200" idx="1"/>
          </p:cNvCxnSpPr>
          <p:nvPr/>
        </p:nvCxnSpPr>
        <p:spPr>
          <a:xfrm>
            <a:off x="1676520" y="45716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0" idx="3"/>
            <a:endCxn id="201" idx="1"/>
          </p:cNvCxnSpPr>
          <p:nvPr/>
        </p:nvCxnSpPr>
        <p:spPr>
          <a:xfrm>
            <a:off x="3885840" y="45716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06" name=""/>
          <p:cNvCxnSpPr>
            <a:stCxn id="201" idx="3"/>
            <a:endCxn id="202" idx="1"/>
          </p:cNvCxnSpPr>
          <p:nvPr/>
        </p:nvCxnSpPr>
        <p:spPr>
          <a:xfrm>
            <a:off x="5181120" y="45716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202" idx="3"/>
            <a:endCxn id="203" idx="1"/>
          </p:cNvCxnSpPr>
          <p:nvPr/>
        </p:nvCxnSpPr>
        <p:spPr>
          <a:xfrm>
            <a:off x="7391520" y="45716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08" name=""/>
          <p:cNvSpPr/>
          <p:nvPr/>
        </p:nvSpPr>
        <p:spPr>
          <a:xfrm>
            <a:off x="228600" y="45720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763120" y="45720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4480" y="64008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IR de multicanal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2578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52578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5257800"/>
            <a:ext cx="99036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52578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52578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1676520" y="57146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3885840" y="57146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18" name=""/>
          <p:cNvCxnSpPr>
            <a:stCxn id="213" idx="3"/>
            <a:endCxn id="214" idx="1"/>
          </p:cNvCxnSpPr>
          <p:nvPr/>
        </p:nvCxnSpPr>
        <p:spPr>
          <a:xfrm>
            <a:off x="5181120" y="5714640"/>
            <a:ext cx="30564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19" name=""/>
          <p:cNvCxnSpPr>
            <a:stCxn id="214" idx="3"/>
            <a:endCxn id="215" idx="1"/>
          </p:cNvCxnSpPr>
          <p:nvPr/>
        </p:nvCxnSpPr>
        <p:spPr>
          <a:xfrm>
            <a:off x="7391520" y="57146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20" name=""/>
          <p:cNvSpPr/>
          <p:nvPr/>
        </p:nvSpPr>
        <p:spPr>
          <a:xfrm>
            <a:off x="228600" y="57150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763120" y="57150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14480" y="548640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IR de multicanal secu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32004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200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2666880"/>
            <a:ext cx="99036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200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32004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3" idx="3"/>
            <a:endCxn id="224" idx="1"/>
          </p:cNvCxnSpPr>
          <p:nvPr/>
        </p:nvCxnSpPr>
        <p:spPr>
          <a:xfrm>
            <a:off x="1676520" y="36572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29" name=""/>
          <p:cNvCxnSpPr>
            <a:stCxn id="224" idx="3"/>
            <a:endCxn id="225" idx="1"/>
          </p:cNvCxnSpPr>
          <p:nvPr/>
        </p:nvCxnSpPr>
        <p:spPr>
          <a:xfrm flipV="1">
            <a:off x="3885840" y="3123720"/>
            <a:ext cx="305640" cy="534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30" name=""/>
          <p:cNvCxnSpPr>
            <a:stCxn id="225" idx="3"/>
            <a:endCxn id="226" idx="1"/>
          </p:cNvCxnSpPr>
          <p:nvPr/>
        </p:nvCxnSpPr>
        <p:spPr>
          <a:xfrm>
            <a:off x="5181120" y="3124080"/>
            <a:ext cx="305640" cy="534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31" name=""/>
          <p:cNvCxnSpPr>
            <a:stCxn id="226" idx="3"/>
            <a:endCxn id="227" idx="1"/>
          </p:cNvCxnSpPr>
          <p:nvPr/>
        </p:nvCxnSpPr>
        <p:spPr>
          <a:xfrm>
            <a:off x="7391520" y="36572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32" name=""/>
          <p:cNvSpPr/>
          <p:nvPr/>
        </p:nvSpPr>
        <p:spPr>
          <a:xfrm>
            <a:off x="228600" y="36576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63120" y="36576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3434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343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343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43434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4" idx="3"/>
            <a:endCxn id="235" idx="1"/>
          </p:cNvCxnSpPr>
          <p:nvPr/>
        </p:nvCxnSpPr>
        <p:spPr>
          <a:xfrm>
            <a:off x="1676520" y="48002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39" name=""/>
          <p:cNvCxnSpPr>
            <a:stCxn id="235" idx="3"/>
            <a:endCxn id="225" idx="1"/>
          </p:cNvCxnSpPr>
          <p:nvPr/>
        </p:nvCxnSpPr>
        <p:spPr>
          <a:xfrm flipV="1">
            <a:off x="3885840" y="3123360"/>
            <a:ext cx="305640" cy="1677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40" name=""/>
          <p:cNvCxnSpPr>
            <a:stCxn id="225" idx="3"/>
            <a:endCxn id="236" idx="1"/>
          </p:cNvCxnSpPr>
          <p:nvPr/>
        </p:nvCxnSpPr>
        <p:spPr>
          <a:xfrm>
            <a:off x="5181120" y="3123720"/>
            <a:ext cx="305640" cy="1677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41" name=""/>
          <p:cNvCxnSpPr>
            <a:stCxn id="236" idx="3"/>
            <a:endCxn id="237" idx="1"/>
          </p:cNvCxnSpPr>
          <p:nvPr/>
        </p:nvCxnSpPr>
        <p:spPr>
          <a:xfrm>
            <a:off x="7391520" y="48002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42" name=""/>
          <p:cNvSpPr/>
          <p:nvPr/>
        </p:nvSpPr>
        <p:spPr>
          <a:xfrm>
            <a:off x="228600" y="48006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48006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144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914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914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9144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5" idx="1"/>
          </p:cNvCxnSpPr>
          <p:nvPr/>
        </p:nvCxnSpPr>
        <p:spPr>
          <a:xfrm>
            <a:off x="1676520" y="13712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49" name=""/>
          <p:cNvCxnSpPr>
            <a:stCxn id="245" idx="3"/>
            <a:endCxn id="225" idx="1"/>
          </p:cNvCxnSpPr>
          <p:nvPr/>
        </p:nvCxnSpPr>
        <p:spPr>
          <a:xfrm>
            <a:off x="3885840" y="1371600"/>
            <a:ext cx="305640" cy="17532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50" name=""/>
          <p:cNvCxnSpPr>
            <a:stCxn id="225" idx="3"/>
            <a:endCxn id="246" idx="1"/>
          </p:cNvCxnSpPr>
          <p:nvPr/>
        </p:nvCxnSpPr>
        <p:spPr>
          <a:xfrm flipV="1">
            <a:off x="5181120" y="1371240"/>
            <a:ext cx="305640" cy="17532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51" name=""/>
          <p:cNvCxnSpPr>
            <a:stCxn id="246" idx="3"/>
            <a:endCxn id="247" idx="1"/>
          </p:cNvCxnSpPr>
          <p:nvPr/>
        </p:nvCxnSpPr>
        <p:spPr>
          <a:xfrm>
            <a:off x="7391520" y="13712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52" name=""/>
          <p:cNvSpPr/>
          <p:nvPr/>
        </p:nvSpPr>
        <p:spPr>
          <a:xfrm>
            <a:off x="228600" y="13716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63120" y="13716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057400"/>
            <a:ext cx="12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057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2057400"/>
            <a:ext cx="19051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57400"/>
            <a:ext cx="106704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4" idx="3"/>
            <a:endCxn id="255" idx="1"/>
          </p:cNvCxnSpPr>
          <p:nvPr/>
        </p:nvCxnSpPr>
        <p:spPr>
          <a:xfrm>
            <a:off x="1676520" y="2514240"/>
            <a:ext cx="305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59" name=""/>
          <p:cNvCxnSpPr>
            <a:stCxn id="255" idx="3"/>
            <a:endCxn id="225" idx="1"/>
          </p:cNvCxnSpPr>
          <p:nvPr/>
        </p:nvCxnSpPr>
        <p:spPr>
          <a:xfrm>
            <a:off x="3885840" y="2514240"/>
            <a:ext cx="305640" cy="6102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60" name=""/>
          <p:cNvCxnSpPr>
            <a:stCxn id="225" idx="3"/>
            <a:endCxn id="256" idx="1"/>
          </p:cNvCxnSpPr>
          <p:nvPr/>
        </p:nvCxnSpPr>
        <p:spPr>
          <a:xfrm flipV="1">
            <a:off x="5181120" y="2513880"/>
            <a:ext cx="305640" cy="6102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261" name=""/>
          <p:cNvCxnSpPr>
            <a:stCxn id="256" idx="3"/>
            <a:endCxn id="257" idx="1"/>
          </p:cNvCxnSpPr>
          <p:nvPr/>
        </p:nvCxnSpPr>
        <p:spPr>
          <a:xfrm>
            <a:off x="7391520" y="2514240"/>
            <a:ext cx="30528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28600" y="251460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763120" y="251460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8640" y="6137280"/>
            <a:ext cx="82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a sola unidad operativa (MAC) y múltiples registros (memo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7 Exhibidores dinámicos de 7 segm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1981080"/>
            <a:ext cx="2590920" cy="41148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play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0120" y="4038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981080"/>
            <a:ext cx="3048120" cy="41148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recuencí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4 díg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25146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43434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5181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40640" y="1981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0640" y="2895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40640" y="3809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0640" y="4648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5400" y="6400800"/>
            <a:ext cx="36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única y destino ú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553080" y="762120"/>
            <a:ext cx="1371600" cy="4800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24680" y="31240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762120"/>
            <a:ext cx="2133360" cy="48006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recuencí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8 díg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6765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22860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2895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1680" y="533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21680" y="1143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21680" y="1752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168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9000" y="617220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única múltiple y destino ú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35053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4114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7242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53341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1680" y="297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21680" y="3581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21680" y="4191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21680" y="4800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762120"/>
            <a:ext cx="1371600" cy="480060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1480" y="22860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895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053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416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4160" y="2362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4160" y="2971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64160" y="3581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553080" y="762120"/>
            <a:ext cx="1371600" cy="4800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4680" y="31240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295280"/>
            <a:ext cx="2133360" cy="6858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16765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289548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8640" y="61722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 diversa múltiple y destino ú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4114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533412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762120"/>
            <a:ext cx="1371600" cy="480060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32004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2514600"/>
            <a:ext cx="2133360" cy="6858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3733920"/>
            <a:ext cx="2133360" cy="6858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4952880"/>
            <a:ext cx="2133360" cy="6858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8 Exhibidor dinámico de LCD de tex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alizar el planteamiento a bloques de los siguientes ca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plicación única a frecuencímetro sin 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plicación única a frecuencímetro con 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plicación múltiple con doble 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áctica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e 1: LCD driver de 4 y 8 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e el manejador de LCD para bus de 4 y 8 bits suponiendo que la información a exhibir se encuentra almacenada en una 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1 Modelo general de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590920"/>
            <a:ext cx="1752840" cy="25905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560"/>
              <a:gd name="textAreaBottom" fmla="*/ 2505240 h 2590560"/>
            </a:gdLst>
            <a:ahLst/>
            <a:rect l="textAreaLeft" t="textAreaTop" r="textAreaRight" b="textAreaBottom"/>
            <a:pathLst>
              <a:path w="21600" h="31921">
                <a:moveTo>
                  <a:pt x="3600" y="0"/>
                </a:moveTo>
                <a:arcTo wR="3600" hR="3600" stAng="16200000" swAng="-5400000"/>
                <a:lnTo>
                  <a:pt x="0" y="28321"/>
                </a:lnTo>
                <a:arcTo wR="3600" hR="3600" stAng="10800000" swAng="-5400000"/>
                <a:lnTo>
                  <a:pt x="18000" y="31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590920"/>
            <a:ext cx="1752480" cy="25905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560"/>
              <a:gd name="textAreaBottom" fmla="*/ 2505240 h 2590560"/>
            </a:gdLst>
            <a:ahLst/>
            <a:rect l="textAreaLeft" t="textAreaTop" r="textAreaRight" b="textAreaBottom"/>
            <a:pathLst>
              <a:path w="21600" h="31928">
                <a:moveTo>
                  <a:pt x="3600" y="0"/>
                </a:moveTo>
                <a:arcTo wR="3600" hR="3600" stAng="16200000" swAng="-5400000"/>
                <a:lnTo>
                  <a:pt x="0" y="28328"/>
                </a:lnTo>
                <a:arcTo wR="3600" hR="3600" stAng="10800000" swAng="-5400000"/>
                <a:lnTo>
                  <a:pt x="18000" y="31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la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590920"/>
            <a:ext cx="2590920" cy="259056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7" idx="3"/>
            <a:endCxn id="99" idx="1"/>
          </p:cNvCxnSpPr>
          <p:nvPr/>
        </p:nvCxnSpPr>
        <p:spPr>
          <a:xfrm>
            <a:off x="2362320" y="3885840"/>
            <a:ext cx="83880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01" name=""/>
          <p:cNvCxnSpPr>
            <a:stCxn id="99" idx="3"/>
            <a:endCxn id="98" idx="1"/>
          </p:cNvCxnSpPr>
          <p:nvPr/>
        </p:nvCxnSpPr>
        <p:spPr>
          <a:xfrm>
            <a:off x="5791320" y="3885840"/>
            <a:ext cx="9151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295280"/>
            <a:ext cx="6553440" cy="52578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2 Modelo de interfaz dinám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3505320" cy="403848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4038480"/>
              <a:gd name="textAreaBottom" fmla="*/ 3867480 h 4038480"/>
            </a:gdLst>
            <a:ahLst/>
            <a:rect l="textAreaLeft" t="textAreaTop" r="textAreaRight" b="textAreaBottom"/>
            <a:pathLst>
              <a:path w="21600" h="24885">
                <a:moveTo>
                  <a:pt x="3600" y="0"/>
                </a:moveTo>
                <a:arcTo wR="3600" hR="3600" stAng="16200000" swAng="-5400000"/>
                <a:lnTo>
                  <a:pt x="0" y="21285"/>
                </a:lnTo>
                <a:arcTo wR="3600" hR="3600" stAng="10800000" swAng="-5400000"/>
                <a:lnTo>
                  <a:pt x="18000" y="24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 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múltiples 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1523880"/>
            <a:ext cx="1371600" cy="12193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la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1523880"/>
            <a:ext cx="167652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3124080"/>
            <a:ext cx="1371600" cy="121932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la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124080"/>
            <a:ext cx="167652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181480"/>
            <a:ext cx="1371600" cy="121932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la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81480"/>
            <a:ext cx="1676520" cy="121932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5" idx="1"/>
            <a:endCxn id="106" idx="3"/>
          </p:cNvCxnSpPr>
          <p:nvPr/>
        </p:nvCxnSpPr>
        <p:spPr>
          <a:xfrm rot="10800000">
            <a:off x="6476400" y="2133000"/>
            <a:ext cx="9151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2" name=""/>
          <p:cNvCxnSpPr>
            <a:stCxn id="107" idx="1"/>
            <a:endCxn id="108" idx="3"/>
          </p:cNvCxnSpPr>
          <p:nvPr/>
        </p:nvCxnSpPr>
        <p:spPr>
          <a:xfrm rot="10800000">
            <a:off x="6476400" y="3733200"/>
            <a:ext cx="9151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3" name=""/>
          <p:cNvCxnSpPr>
            <a:stCxn id="109" idx="1"/>
            <a:endCxn id="110" idx="3"/>
          </p:cNvCxnSpPr>
          <p:nvPr/>
        </p:nvCxnSpPr>
        <p:spPr>
          <a:xfrm rot="10800000">
            <a:off x="6476400" y="5790600"/>
            <a:ext cx="9151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4" name=""/>
          <p:cNvCxnSpPr>
            <a:stCxn id="108" idx="1"/>
            <a:endCxn id="104" idx="3"/>
          </p:cNvCxnSpPr>
          <p:nvPr/>
        </p:nvCxnSpPr>
        <p:spPr>
          <a:xfrm flipV="1" rot="10800000">
            <a:off x="4114080" y="3732840"/>
            <a:ext cx="686520" cy="64836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5" name=""/>
          <p:cNvCxnSpPr>
            <a:stCxn id="110" idx="1"/>
            <a:endCxn id="104" idx="3"/>
          </p:cNvCxnSpPr>
          <p:nvPr/>
        </p:nvCxnSpPr>
        <p:spPr>
          <a:xfrm rot="10800000">
            <a:off x="4114080" y="4380840"/>
            <a:ext cx="686520" cy="14104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16" name=""/>
          <p:cNvCxnSpPr>
            <a:stCxn id="106" idx="1"/>
            <a:endCxn id="104" idx="3"/>
          </p:cNvCxnSpPr>
          <p:nvPr/>
        </p:nvCxnSpPr>
        <p:spPr>
          <a:xfrm flipV="1" rot="10800000">
            <a:off x="4114080" y="2133360"/>
            <a:ext cx="686520" cy="224856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764640" y="1600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.3 Datapath y transferencia de registr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 un sistema SOC se necesitan diferentes técnicas para la transferencia de  información entre las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atapath: Ruta de flujo de la información entre 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ansferencia de registros: Flujo de información entre 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loor plan: Técnicas para resolver el flu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atapath y proces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confundir técnicas de transferencia de registros con técnicas de procesamiento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 proceso es una técnica para realizar una operación en una unidad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procesos operativos son sistemas digi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transferencia de registros se lleva a cabo entre procesos difer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ces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rresponden al nivel de diseño de sistemas digitales y 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cesamiento iter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banadas de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cesamiento pip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banadas de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últiples fases de re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cesamiento paral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atapa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uta de datos en un flujo 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clasifican de acuerdo a la fuente y al destino de los datos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uente y múltiples desti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últiples fuentes y múltiples destinos difer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últiples fuentes y múltiples destinos ig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Una fuente con múltiples destin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352680"/>
            <a:ext cx="2286000" cy="9144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198108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335268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029200"/>
            <a:ext cx="228600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tin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9" idx="3"/>
            <a:endCxn id="132" idx="1"/>
          </p:cNvCxnSpPr>
          <p:nvPr/>
        </p:nvCxnSpPr>
        <p:spPr>
          <a:xfrm>
            <a:off x="3962160" y="3809520"/>
            <a:ext cx="1143720" cy="16772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129" idx="3"/>
            <a:endCxn id="130" idx="1"/>
          </p:cNvCxnSpPr>
          <p:nvPr/>
        </p:nvCxnSpPr>
        <p:spPr>
          <a:xfrm flipV="1">
            <a:off x="3962160" y="2437920"/>
            <a:ext cx="1143720" cy="13723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9" idx="3"/>
            <a:endCxn id="131" idx="1"/>
          </p:cNvCxnSpPr>
          <p:nvPr/>
        </p:nvCxnSpPr>
        <p:spPr>
          <a:xfrm>
            <a:off x="3962160" y="3809520"/>
            <a:ext cx="1143720" cy="1080"/>
          </a:xfrm>
          <a:prstGeom prst="bentConnector2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0:26:32Z</dcterms:created>
  <dc:creator>René</dc:creator>
  <dc:description/>
  <dc:language>en-US</dc:language>
  <cp:lastModifiedBy>René</cp:lastModifiedBy>
  <dcterms:modified xsi:type="dcterms:W3CDTF">2007-12-25T20:14:20Z</dcterms:modified>
  <cp:revision>35</cp:revision>
  <dc:subject/>
  <dc:title>Estructuras digitales con FPGA</dc:title>
</cp:coreProperties>
</file>