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167-7CD1-4A22-8E59-EBA9484E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F07-0736-4F6A-9DD2-64606D9F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762-C37B-40B6-B5A3-3C4ABF4D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171-77D1-42DA-A7C5-BF9E9EC1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7B4D-E787-4767-8A1C-1AE6E70B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7C87-1B0C-4E93-94FC-A23D7806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03E9-FE01-433B-BCBD-DE45C05E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E7A3-4AB6-4660-A409-647B317E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B412-9659-4ED0-9F81-1D4FE5CB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8B49-96EF-429F-BB56-4FB595E9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E21A-A71F-44D5-BAF0-49D31B54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A8F-279A-4436-AC20-78274920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6E1D-5722-4452-B729-17A2A696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FE22-4F83-4E7C-B4CC-E09895DA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CCED-D155-4F82-9ADC-537C2EB1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FD43-B86F-450A-B319-AD56828F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0DB5-9FBC-4DCF-8ADE-AF4451B8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360-E6C9-4558-82DF-FA26A828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EA6-FB84-4C94-98BF-0D737953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BE7-3AB3-4EE9-AB16-EBFF1D3A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F34-0F1A-470B-9B90-93A9C292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7F2-E752-42EE-A49F-C8148932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435-599E-432E-9C6C-696233CE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E8C-67AF-4DB2-AFEB-1ABC5CE5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D252-9593-4B13-A5B6-AD0FF66138E3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834F-C25E-42EB-910B-061BC49507C7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Estructuras digitales con FPG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66"/>
                </a:solidFill>
                <a:latin typeface="Arial"/>
              </a:rPr>
              <a:t>Capítulo 3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66"/>
                </a:solidFill>
                <a:latin typeface="Arial"/>
              </a:rPr>
              <a:t>Memorias interna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66"/>
                </a:solidFill>
                <a:latin typeface="Arial"/>
              </a:rPr>
              <a:t>René de J. Romero 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Doble puerto, 1 reloj, 1 escritura, 1 l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2590920"/>
            <a:ext cx="1981080" cy="38862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617220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1320" y="594360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CL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342900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89548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533412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5334120"/>
            <a:ext cx="1295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13880" y="510552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R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2760" y="266688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42040" y="510552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A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1320" y="32004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DW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403848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40600" y="380988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W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Descripción VHD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1120" y="2487600"/>
            <a:ext cx="77702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library IEEE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use IEEE.std_logic_1164.all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use IEEE.std_logic_arith.all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use IEEE.std_logic_unsigned.all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entity RAM_1c_1w_1r i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generic(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m : integer := 8; -- Ancho de palab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n : integer := 2; -- Bits de direcc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k : integer := 4  -- Localidades de memoria k=2**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port(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CLK : in  std_logic; -- Reloj maestr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WRE : in  std_logic; -- Habilitacion de escritu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DWR : in  std_logic_vector(m-1 downto 0); -- Dato de escritu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ADA : in  std_logic_vector(n-1 downto 0); -- Direccion de escritura 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ADB : in  std_logic_vector(n-1 downto 0); -- Direccion de lectura 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RDB : out std_logic_vector(m-1 downto 0)  -- Dato de lectura 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end RAM_1c_1w_1r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58160" y="2363760"/>
            <a:ext cx="8105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architecture Xilinx_block of RAM_1c_1w_1r is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-- Definicion del numero de bits del registr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subtype Ancho_del_registro is std_logic_vector(m-1 downto 0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-- Definicion de la memoria como arreglo de registr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type    Memoria is array(natural range &lt;&gt;) of Ancho_del_registr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-- Declaracion del tamano de la memor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signal  RAM_MEM : Memoria(0 to k-1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6360" y="2363760"/>
            <a:ext cx="75567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process (RAM_CLK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-- Todo el proceso esta sincronizado al reloj maestr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if (RAM_CLK'event and RAM_CLK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-- Todos los accesos son habilitados por W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if (RAM_WRE = '1') then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RAM_MEM(conv_integer(RAM_ADA)) &lt;= RAM_DWR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RAM_RDB &lt;= RAM_MEM(conv_integer(RAM_ADB)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process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Xilinx_block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28600" y="149400"/>
          <a:ext cx="8686800" cy="65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9400"/>
                    <a:ext cx="8686800" cy="65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Doble puerto, 2 relojes, 1 lectura/escritura, 1 l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2590920"/>
            <a:ext cx="1981080" cy="38862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624852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2040" y="601992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C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342900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289548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3429000"/>
            <a:ext cx="1295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33412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5334120"/>
            <a:ext cx="1295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14240" y="32004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R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13880" y="510552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R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42760" y="266688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2040" y="510552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A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41320" y="32004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DW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403848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0600" y="380988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W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457200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1680" y="434340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E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579132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1680" y="556272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CK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495288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1320" y="472428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EN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Descripción VHD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080" y="2335320"/>
            <a:ext cx="7587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library IEEE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use IEEE.std_logic_1164.all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use IEEE.std_logic_arith.all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use IEEE.std_logic_unsigned.all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entity RAM_2c_1rd_1r i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generic(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m : integer := 8; -- Ancho de palab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n : integer := 2; -- Bits de direcc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k : integer := 4  -- Localidades de memoria k=2**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port(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CKA : in  std_logic; -- Reloj escritura/lectura 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CKB : in  std_logic; -- Reloj lectura 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ENA : in  std_logic; -- Habilitacion puerto 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ENB : in  std_logic; -- Habilitacion puerto 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WRE : in  std_logic; -- Habilitacion de escritu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DWR : in  std_logic_vector(m-1 downto 0); -- Dato de escritu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ADA : in  std_logic_vector(n-1 downto 0); -- Direccion de esc/lec 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ADB : in  std_logic_vector(n-1 downto 0); -- Direccion de lectura 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RDA : out std_logic_vector(m-1 downto 0); -- Dato de lectura 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RDB : out std_logic_vector(m-1 downto 0)  -- Dato de lectura 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end RAM_2c_1rd_1r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58160" y="2363760"/>
            <a:ext cx="8105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architecture Xilinx_block of RAM_2c_1rd_1r is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-- Definicion del numero de bits del registr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subtype Ancho_del_registro is std_logic_vector(m-1 downto 0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-- Definicion de la memoria como arreglo de registr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type    Memoria is array(natural range &lt;&gt;) of Ancho_del_registr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-- Declaracion del tamano de la memor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signal  RAM_MEM : Memoria(0 to k-1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begin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6160" y="685800"/>
            <a:ext cx="7343640" cy="5635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Reloj_A: process (RAM_CKA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-- Todo el proceso esta sincronizado al reloj 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if (RAM_CKA'event and RAM_CKA = '1') th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4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-- Todos los accesos son habilitados por ENA y WR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4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if (RAM_ENA = '1') then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s-MX" sz="1400" spc="-1" strike="noStrike">
                <a:solidFill>
                  <a:srgbClr val="003366"/>
                </a:solidFill>
                <a:latin typeface="Courier New"/>
              </a:rPr>
              <a:t>        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if (RAM_WRE = '1') th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        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4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RAM_MEM(conv_integer(RAM_ADA)) &lt;= RAM_DWR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4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RAM_RDA &lt;= RAM_MEM(conv_integer(RAM_ADA)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end process Reloj_A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Reloj_B: process (RAM_CKB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-- Todo el proceso esta sincronizado al reloj 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if (RAM_CKB'event and RAM_CKB = '1') th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-- El acceso de lectura esta habilitado por EN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if (RAM_ENB = '1') th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RAM_RDB &lt;= RAM_MEM(conv_integer(RAM_ADB)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end process Reloj_B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Courier New"/>
              </a:rPr>
              <a:t>end Xilinx_block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Puerto sencillo sin carg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6360" y="2363760"/>
            <a:ext cx="6764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process (RAM_CLK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beg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if (RAM_CLK'event and RAM_CLK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if (RAM_ENA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if (RAM_WRE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RAM_MEM(conv_integer(RAM_ADA)) &lt;= RAM_DWR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l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RAM_RDA &lt;= RAM_MEM(conv_integer(RAM_ADA)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process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Memorias de blo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3.2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Xilin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3.3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Alt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3.4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Memorias especiales con blo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3.5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Memorias lóg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Puerto sencillo primero l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6360" y="2363760"/>
            <a:ext cx="6764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process (RAM_CLK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beg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if (RAM_CLK'event and RAM_CLK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if (RAM_ENA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if (RAM_WRE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RAM_MEM(conv_integer(RAM_ADA)) &lt;= RAM_DWR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RAM_RDA &lt;= RAM_MEM(conv_integer(RAM_ADA)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process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Puerto sencillo primero escri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320" y="2363760"/>
            <a:ext cx="67644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process (RAM_CLK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beg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if (RAM_CLK'event and RAM_CLK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if (RAM_ENA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if (RAM_WRE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RAM_MEM(conv_integer(RAM_ADA)) &lt;= RAM_DWR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RAM_RDA &lt;= RAM_DWR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l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RAM_RDA &lt;= RAM_MEM(conv_integer(RAM_ADA)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process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3.3 Altera Cyclon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Memorias de bloque (prefabricad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Un puerto de escritura y un puerto de lectura con un solo relo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Un puerto de escritura y un puerto de lectura con dos reloj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Un puerto de escritura y un puerto de lectura con un solo reloj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" y="2363760"/>
            <a:ext cx="6703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PROCESS (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CLK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IF (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CLK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'event AND 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CLK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IF (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WRE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MEM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conv_integer(RAM_ADA)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) &lt;= 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DWR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RDA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&lt;= 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MEM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conv_integer(RAM_ADA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)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PROCESS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Un puerto de escritura y un puerto de lectura con dos reloj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0520" y="2363760"/>
            <a:ext cx="80449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eloj_1: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PROCESS (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CKA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IF (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CKA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'event AND 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CKA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IF (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WRE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MEM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conv_integer(RAM_ADA)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) &lt;= 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DWR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PROCESS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Reloj_1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eloj_2: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PROCESS (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CKB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IF (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CKB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'event AND 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CKB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RDA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&lt;= 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MEM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(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REG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REG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&lt;= 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RAM_ADB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PROCESS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Reloj_2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3.4 Memorias especiales con blo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Utilizando los bloques RAM constructores de Xilinx y Altera proponga las estructuras de las siguientes memorias especia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ircular F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ircular I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FIF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LIF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oble puerto con re-escri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oble puerto con acceso aleato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3.5 Memorias lóg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e sintetizan con bloques lóg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Un puer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Dos puer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Un puer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60" y="2363760"/>
            <a:ext cx="6276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process (RAM_CLK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beg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if (RAM_CLK'event and RAM_CLK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if (RAM_WRE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RAM_MEM(conv_integer(RAM_ADA) &lt;= RAM_DWR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process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RAM_RDA &lt;= RAM_MEM(conv_integer(RAM_ADA)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Dos puer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1960" y="2363760"/>
            <a:ext cx="6276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process (RAM_CLK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beg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if (RAM_CLK'event and RAM_CLK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if (RAM_WRE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RAM_MEM(conv_integer(RAM_ADA) &lt;= RAM_DWR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end process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  <a:ea typeface="Times New Roman"/>
              </a:rPr>
              <a:t>RAM_RDA &lt;= RAM_MEM(conv_integer(RAM_ADB)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Práctica 1. Parte fi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Realice el manejador de desplegado LCD para medir frecuencia y fase (multiplexadas) utilizando una memoria RAM interna de doble puerto de acce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3.1 Memorias de bloq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Son memorias prefabricadas que se encuentran disponibles como módulos básicos en los FPG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ada fabricante, familia y dispositivo tiene sus propios tipos de memoria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l fabricante proporciona la capacidad y tipo de memoria que puede ser inferida, asi como el código HDL que se debe utiliz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Si una memoria al ser inferida se sintetiza con lógica, quiere decir que la familia FPGA no tiene este blo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are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Realice la descripción VHDL, simulación y síntesis de los bloques constructores de memorias especiales vistos en este t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3.2 Xilinx Spartan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Memorias de bloque (prefabricad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oble puer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1 reloj, 1 lectura/escritura, 1 lec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1 reloj, 1 escritura, 1 lec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2 relojes, 1 lectura/escritura, 1 lec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uerto sencill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Sin carg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Leer prime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Escribir prime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Doble puerto, 1 reloj, 1 lectura/escritura, 1 l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2590920"/>
            <a:ext cx="1981080" cy="38862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617220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1320" y="594360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CL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342900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289548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3429000"/>
            <a:ext cx="1295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533412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334120"/>
            <a:ext cx="1295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4240" y="32004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R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13880" y="510552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R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42760" y="266688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2040" y="510552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A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1320" y="32004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DW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403848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40600" y="380988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W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4572000"/>
            <a:ext cx="129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41680" y="434340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RAM_E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Descripción VHD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2680" y="2487600"/>
            <a:ext cx="75873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library IEEE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use IEEE.std_logic_1164.all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use IEEE.std_logic_arith.all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use IEEE.std_logic_unsigned.all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entity RAM_1c_1rd_1r i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generic(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m : integer := 8; -- Ancho de palab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n : integer := 2; -- Bits de direcc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k : integer := 4  -- Localidades de memoria k=2**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port(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CLK : in  std_logic; -- Reloj maestr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ENA : in  std_logic; -- Habilitacion maest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WRE : in  std_logic; -- Habilitacion de escritu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DWR : in  std_logic_vector(m-1 downto 0); -- Dato de escritu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ADA : in  std_logic_vector(n-1 downto 0); -- Direccion de esc/lec 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ADB : in  std_logic_vector(n-1 downto 0); -- Direccion de lectura 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RDA : out std_logic_vector(m-1 downto 0); -- Dato de lectura 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RAM_RDB : out std_logic_vector(m-1 downto 0)  -- Dato de lectura 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Courier New"/>
              </a:rPr>
              <a:t>end RAM_1c_1rd_1r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0440" y="2592360"/>
            <a:ext cx="8105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architecture Xilinx_block of RAM_1c_1rd_1r is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-- Definicion del numero de bits del registr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subtype Ancho_del_registro is std_logic_vector(m-1 downto 0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-- Definicion de la memoria como arreglo de registr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type    Memoria is array(natural range &lt;&gt;) of Ancho_del_registr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-- Declaracion del tamano de la memor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signal  RAM_MEM : Memoria(0 to k-1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1240" y="2363760"/>
            <a:ext cx="761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process (RAM_CLK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-- Todo el proceso esta sincronizado al reloj maestr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if (RAM_CLK'event and RAM_CLK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-- Todos los accesos son habilitados por EN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if (RAM_ENA = '1') then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-- La escritura se habilita con W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if (RAM_WRE = '1') th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       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RAM_MEM(conv_integer(RAM_ADA)) &lt;= RAM_DWR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RAM_RDA &lt;= RAM_MEM(conv_integer(RAM_ADA)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RAM_RDB &lt;= RAM_MEM(conv_integer(RAM_ADB)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process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Courier New"/>
              </a:rPr>
              <a:t>end Xilinx_block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52280" y="150840"/>
          <a:ext cx="8763120" cy="66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0840"/>
                    <a:ext cx="8763120" cy="66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23:33:38Z</dcterms:created>
  <dc:creator>René</dc:creator>
  <dc:description/>
  <dc:language>en-US</dc:language>
  <cp:lastModifiedBy>René</cp:lastModifiedBy>
  <dcterms:modified xsi:type="dcterms:W3CDTF">2008-01-02T21:32:02Z</dcterms:modified>
  <cp:revision>34</cp:revision>
  <dc:subject/>
  <dc:title>Estructuras digitales con FPGA</dc:title>
</cp:coreProperties>
</file>