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689-B67E-46E3-B067-7C17D9B6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18C-0CC9-4670-AC14-9E71816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6C0-31D6-4F99-BEC7-9638951A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7E1-38FF-4A0A-A827-8B602617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47E5-ABAB-43F0-9672-C5DB6BAD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21FF-9BD8-4587-8697-98C51D19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047F-70C7-45E5-8F39-2C52E26F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9C2E-5DC9-45A0-A59C-115E8DF6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972B-63BA-42BD-8640-F3BC442F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1D8E-5042-4812-B1D9-7D00F820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EDE9-23A8-4F9E-95F7-73DEA1A9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C65-6AE8-4A38-93E8-74539E11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B46C-F0C2-4880-965E-A64A4C9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48AC-B13B-4C40-B786-5F8F522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EC02-F8D5-4C9D-A2A6-B2903249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D31D-A2A6-42FF-BF36-3DBC36B6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B8D6-579B-40DA-AA3B-9DA7FC39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2E8-23A0-4704-A87F-6FEAAA22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522-8C2D-4A65-8CFC-C47A9A54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F5A-D8DF-404D-B0CC-38F449FF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223-B3AB-4744-8679-59A21AC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665-E332-4650-A240-A07105AB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5AC-2E0E-4C78-BFE5-B3BF77F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C2A-2151-406D-98FF-FD59BEE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8F3-887A-477F-A8BD-C2A196CAFD3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66FE-C9AF-4A67-A8C9-099A1D80A3A7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Estructuras digitales en FPG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Universidad de Guanajuato – FIM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Maestría en Ingeniería Eléctr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(Instrumentación y Sistemas Digitale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r. René de J. Romero Troncos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onocer los diferentes tipos de memor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iseñar estructuras digitales para el manejo de memor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iseñar interfaces para dispositivos que requieren memorias masivas exter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esarrollar cores para el manejo de video y exhibició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Temario condensa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Tipos de memor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Memorias inter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Memorias exter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xhibición de vide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aptura de imáge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Prác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Interfaz activa para LCD de tex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esplegado VG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esplegado LCD gráf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aptura de video compues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aptura de imag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Proyecto fi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Proyecto fi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Proyecto que haga uso de las técnicas de manejo de memorias masivas y exhibición dinámica, orientado a las áreas de interés particula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0:08:04Z</dcterms:created>
  <dc:creator>René</dc:creator>
  <dc:description/>
  <dc:language>en-US</dc:language>
  <cp:lastModifiedBy>René</cp:lastModifiedBy>
  <dcterms:modified xsi:type="dcterms:W3CDTF">2007-12-28T23:43:12Z</dcterms:modified>
  <cp:revision>4</cp:revision>
  <dc:subject/>
  <dc:title>Estructuras digitales en FPGA</dc:title>
</cp:coreProperties>
</file>