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359-D06D-4243-8B58-B964779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DB8-CAF3-465D-A4C9-D3C6626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703-960C-437B-9788-A8DF7DF6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EC1-981C-41EE-9684-F7FABB90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A9E1-DA81-4716-B41C-8B638A01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27C-04DB-4D18-AED6-93749EB4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6B48-A17C-409F-85DF-72FE0D3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2AE8-E99D-4970-BB66-172DADE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DCF6-7B72-4272-880A-CDB24E8B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598-52BB-4D87-9C2E-A691EE0B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EB06-4569-42B1-BE8B-3D371F7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F9B-8967-4A58-874F-C947F37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AE6-EF02-44FB-A9ED-AC52A90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5756-BDB4-41DC-A0DB-857E9D9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DC92-8978-453C-BB80-69D7FC5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163-3F06-42D2-951A-132BFF5C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0BAC-CE1A-4F9F-BA3E-860ECBC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3FA-4750-4A89-B42A-E588293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365-745A-4E84-B35A-3B48A1C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1B1-3538-457E-BB0B-5FC98506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67A-1033-4590-8AA6-9C40BE3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37E-03E9-4D8C-85C6-AC5B4C3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D25-775B-4725-BBC6-11576020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9C6-419B-4CB2-AADF-EE3E9C2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A601-412A-422D-BF9E-69DF3EC6F8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14EF-527A-48FF-B316-184C745EA2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3366"/>
                </a:solidFill>
                <a:latin typeface="Times New Roman"/>
              </a:rPr>
              <a:t>Estructuras digitales con FPGA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ítul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pos de mem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r. René de J. Romero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l modo lectura opera igual que una ROM típ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2133720"/>
          <a:ext cx="7848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848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El modo escritura o programación opera con una secuencia especi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secuencia de programación es similar a una memoria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quiere un tiempo muy grande de acceso entre dir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secuencia particular de programación depende del tipo particula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OM secuencial circu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requiere bus de dir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accesos posibl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r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icia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2209680"/>
            <a:ext cx="1676160" cy="3581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09920" y="5562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099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3504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35040" y="5299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35400" y="4842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722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6172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11000" y="5908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1905120"/>
            <a:ext cx="5943600" cy="441936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iagrama de bloques de una ROM secuenci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286000"/>
            <a:ext cx="1676520" cy="3581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2362320"/>
            <a:ext cx="2438280" cy="1218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ódul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81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5105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0044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40044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27200" y="3048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27560" y="2438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31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0552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39625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6840" y="3733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2.3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de lectura y escri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tas memorias pueden ser leídas y escritas durante la operación normal del proceso maestro y 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ervan la información mientras tengan alimentació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ná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quieren una señal periódica de refrescado para conservar la información almac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RAM está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eatorias (síncronas o asíncr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 puerto de acceso (asíncronas sol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 puerto de escritura y un puerto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 puerto de escritura y varios puertos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uenciales (solamente síncron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das tienen un puerto de escritura y uno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AM aleatoria de un puerto de ac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memorias externas y su acceso se realiza a través de un bus de datos bidirec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 capacidad de almacenamiento es alta, sin llegar a ser ma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s ciclos de lectura y escritura no pueden realizarse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Señales típ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: bus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: bus bidireccional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S: habilitación de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D: habilitación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: habilita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2209680"/>
            <a:ext cx="1676160" cy="3581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97520" y="293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97520" y="338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797520" y="4454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97520" y="483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797520" y="521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97520" y="293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6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268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0880" y="4191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51240" y="4572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9800" y="5029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38080" y="2514600"/>
          <a:ext cx="800100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AM multipuerto asíncro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: Dirección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S: Dato de 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W: Dirección de 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W: Dato de 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WE: Habilitación de 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209680"/>
            <a:ext cx="1219320" cy="3505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201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8200" y="213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8200" y="2590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7480" y="4648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7200" y="213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27200" y="25909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Tip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Memorias de solo l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Memorias de lectura y escr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Memoria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Memorias ex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14400" y="1955880"/>
          <a:ext cx="807732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55880"/>
                    <a:ext cx="80773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AM multipuerto de acceso mix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: Dirección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S: Dato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W: Direc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W: Dato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: Habilita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KR: Reloj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KW: Reloj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362320"/>
            <a:ext cx="1219320" cy="3504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848720" y="2666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6800" y="2286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6800" y="2743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080" y="4800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55800" y="2286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55800" y="2743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563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7160" y="525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K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848720" y="5638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5124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K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6680" y="1600200"/>
          <a:ext cx="772632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72632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AM multipuerto totalmente síncro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: Dirección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S: Dato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W: Direc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W: Dato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: Habilita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LK: Reloj maestr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2209680"/>
            <a:ext cx="1219320" cy="3505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2514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77204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40480" y="2133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40480" y="2590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9760" y="4648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79840" y="213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9840" y="25909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1200" y="5105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90720" y="1981080"/>
          <a:ext cx="770724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70724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F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FO: First-in first-out. El primero que entra es el primero que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moria temporal tipo buffer que se llena y vacía a diferent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nsferencia masiva de datos entre sistem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cesita dos punteros: uno de llenado y otro de va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necesariamente sínc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ciona como un dispensador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Dar ejemp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87400" y="1905120"/>
            <a:ext cx="6324840" cy="449568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iagrama de bloques de una F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40240" y="2209680"/>
            <a:ext cx="2819160" cy="2057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65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065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83440" y="251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168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21480" y="2057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3080" y="4343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90520" y="28195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4400" y="2057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065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6920" y="3886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78320" y="4800600"/>
            <a:ext cx="1143000" cy="1447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4800600"/>
            <a:ext cx="19047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nt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800600"/>
            <a:ext cx="190512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nt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9" idx="0"/>
            <a:endCxn id="287" idx="1"/>
          </p:cNvCxnSpPr>
          <p:nvPr/>
        </p:nvCxnSpPr>
        <p:spPr>
          <a:xfrm flipH="1" flipV="1" rot="5400000">
            <a:off x="2417760" y="3677760"/>
            <a:ext cx="156276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300" idx="0"/>
            <a:endCxn id="287" idx="3"/>
          </p:cNvCxnSpPr>
          <p:nvPr/>
        </p:nvCxnSpPr>
        <p:spPr>
          <a:xfrm flipV="1" rot="16200000">
            <a:off x="5922360" y="3674160"/>
            <a:ext cx="1562760" cy="68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0"/>
            <a:endCxn id="287" idx="2"/>
          </p:cNvCxnSpPr>
          <p:nvPr/>
        </p:nvCxnSpPr>
        <p:spPr>
          <a:xfrm flipV="1">
            <a:off x="4949640" y="426672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8" idx="1"/>
            <a:endCxn id="299" idx="3"/>
          </p:cNvCxnSpPr>
          <p:nvPr/>
        </p:nvCxnSpPr>
        <p:spPr>
          <a:xfrm rot="10800000">
            <a:off x="3809160" y="5142960"/>
            <a:ext cx="568800" cy="38160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8" idx="3"/>
            <a:endCxn id="300" idx="1"/>
          </p:cNvCxnSpPr>
          <p:nvPr/>
        </p:nvCxnSpPr>
        <p:spPr>
          <a:xfrm flipV="1">
            <a:off x="5521320" y="5143320"/>
            <a:ext cx="575280" cy="38160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916560" y="342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56272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37124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37124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6320" y="545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6680" y="575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0520" y="5486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11680" y="4724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8920" y="4724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F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2280" y="1828800"/>
          <a:ext cx="876312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76312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L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FO: Last-in first-out. El último que entra es el primero que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moria temporal tipo pila que se llena y vacía a diferent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nsferencia secuencial de datos entre sistem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tiliza un solo puntero para el llenado y va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necesariamente sínc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ciona como una pila de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Dar ejemp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iagrama de bloques de una L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7400" y="1905120"/>
            <a:ext cx="6324840" cy="449568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40240" y="2209680"/>
            <a:ext cx="2819160" cy="2057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065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065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83440" y="251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5168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21480" y="2057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080" y="4343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4400" y="2057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065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6920" y="3886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8320" y="4800600"/>
            <a:ext cx="1143000" cy="1447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800600"/>
            <a:ext cx="19047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  <a:endCxn id="323" idx="1"/>
          </p:cNvCxnSpPr>
          <p:nvPr/>
        </p:nvCxnSpPr>
        <p:spPr>
          <a:xfrm flipH="1" flipV="1" rot="5400000">
            <a:off x="2417760" y="3677760"/>
            <a:ext cx="156276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3" idx="0"/>
            <a:endCxn id="323" idx="2"/>
          </p:cNvCxnSpPr>
          <p:nvPr/>
        </p:nvCxnSpPr>
        <p:spPr>
          <a:xfrm flipV="1">
            <a:off x="4949640" y="426672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3" idx="1"/>
            <a:endCxn id="334" idx="3"/>
          </p:cNvCxnSpPr>
          <p:nvPr/>
        </p:nvCxnSpPr>
        <p:spPr>
          <a:xfrm rot="10800000">
            <a:off x="3809160" y="5142960"/>
            <a:ext cx="568800" cy="38160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916560" y="3429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72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37124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37124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6320" y="545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76680" y="575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0520" y="5486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11680" y="4724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1240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8000" y="3429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2.1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Tipo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memorias pueden ser clasificadas en dos tipos gener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morias de solo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moria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cceso a la LIF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28600" y="1676520"/>
          <a:ext cx="86868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868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AM circu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moria de lectura y escritura con acceso circular (mód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tilizan como buffers circulares para fil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urante la lectura se accede secuencialmente a to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urante la escritura se escribe en la última localidad dispon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y de precarga y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209680"/>
            <a:ext cx="1219320" cy="3505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724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40840" y="2590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4156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9840" y="25909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41200" y="5105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7150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40840" y="5715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iagrama de bloques de una RAM circu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7400" y="1905120"/>
            <a:ext cx="6324840" cy="449568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40240" y="2209680"/>
            <a:ext cx="2819160" cy="2057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65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30200" y="57150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2514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5168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21480" y="2057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03080" y="4343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4400" y="2057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30200" y="617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0600" y="5791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78320" y="4800600"/>
            <a:ext cx="1143000" cy="1447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00600"/>
            <a:ext cx="19047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ódul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68" idx="1"/>
          </p:cNvCxnSpPr>
          <p:nvPr/>
        </p:nvCxnSpPr>
        <p:spPr>
          <a:xfrm flipH="1" flipV="1" rot="5400000">
            <a:off x="2417760" y="3677760"/>
            <a:ext cx="1562760" cy="68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8" idx="0"/>
            <a:endCxn id="368" idx="2"/>
          </p:cNvCxnSpPr>
          <p:nvPr/>
        </p:nvCxnSpPr>
        <p:spPr>
          <a:xfrm flipV="1">
            <a:off x="4949640" y="4266720"/>
            <a:ext cx="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8" idx="1"/>
            <a:endCxn id="379" idx="3"/>
          </p:cNvCxnSpPr>
          <p:nvPr/>
        </p:nvCxnSpPr>
        <p:spPr>
          <a:xfrm rot="10800000">
            <a:off x="3809160" y="5142960"/>
            <a:ext cx="568800" cy="38160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840240" y="53341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562720" y="5562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1680" y="4724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1240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98000" y="3429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00520" y="51814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Operación de la RAM circu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ar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rga el dato de entrada en la última dirección del puntero sin incrementar el punt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leen secuencialmente los datos y se incrementa el puntero en cada lectura, excepto en la última lo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tiliza para el buffer de entrada x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tcar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leen secuencialmente los datos y se incrementa el puntero en cada lectura, excepto en la última lo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rga el dato de entrada en la última localidad del puntero sin alter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tiliza para el buffer de salida recursiva y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RAM dinám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ay síncronas y asíncronas aunque las síncronas imperan en el mercado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das estan segmentadas en bancos, renglones y colum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uentan con un solo puerto de acceso bidirec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ma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SDRAM típ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: Bus de direcciones multiplexado para banco, renglón y colum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: Bus de datos 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: Bus de control de ó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LK: Reloj mae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2209680"/>
            <a:ext cx="1676160" cy="3581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97520" y="293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797520" y="338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797520" y="4454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797520" y="521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797520" y="293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26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9268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505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51240" y="5029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Órdenes típicas de acceso a SD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ctura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c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critura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cri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mbio de b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mbio de reng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fr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2.4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intern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aquellas memorias que pueden ser incorporadas dentro de una solución 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encuentran dentro del FP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n e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capacidad es limi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n muy ráp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ueden ser de bloque o 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 de bloqu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bloque básico de la RAM se encuentra embebido en el F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empre hay que consultar las recomendaciones del fabricante para su correcta inferencia bajo H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eden ser utilizadas como bloque constructor de otros tipos especiales de memoria (secuencial, multipuer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lóg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tas memorias entan basadas en registros y flip-f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tilizan bloques lógicos para su in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n costosas en cuanto a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ben ser utilizadas solamente cuando no se puedan inferir como bl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2.2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de solo lec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memorias de solo lectura se encuentran preprogramadas con sus valores fijos y no se pueden alterar por el sistema. Se clasifican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ale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secu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ir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2.5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s extern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idades de almacenamiento masivo que no pueden ser incorporadas dentro de un 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nen terminales de acceso 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n más l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n un manejo de interfaz especi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Tipos de RAM exter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M estática para almacenamiento temporal de alta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D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M dinámica síncrona para almacenamiento temporal m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M programable que se utiliza para almacenamiento de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ROM de acceso aleator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aleatorio implica la lectura de cualquier dirección en cualquier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bus de datos y bus de dir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sada generalmente como L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362320"/>
            <a:ext cx="1676160" cy="3581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46712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92240" y="293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92240" y="453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Uso de ROM aleato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oritmos numéricos que requieran valores 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eficientes de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ód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828800"/>
            <a:ext cx="2286000" cy="1143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429000"/>
            <a:ext cx="2286000" cy="1143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5029200"/>
            <a:ext cx="2286000" cy="1143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tomátic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2"/>
            <a:endCxn id="146" idx="0"/>
          </p:cNvCxnSpPr>
          <p:nvPr/>
        </p:nvCxnSpPr>
        <p:spPr>
          <a:xfrm flipV="1" rot="10800000">
            <a:off x="6780960" y="2971440"/>
            <a:ext cx="108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2"/>
            <a:endCxn id="147" idx="0"/>
          </p:cNvCxnSpPr>
          <p:nvPr/>
        </p:nvCxnSpPr>
        <p:spPr>
          <a:xfrm flipV="1" rot="10800000">
            <a:off x="6780960" y="4571640"/>
            <a:ext cx="108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s de u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UT de funciones trascend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eficientes de filtros digitales FIR e I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eficientes de regresiones polinom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eficientes de controladores digitales 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abla de calibración de sen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emoria Flas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moria tipo EEP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clo limitado de escritura (1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de escritura muy lento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cceso de lectura estándar como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286000"/>
            <a:ext cx="1676160" cy="3581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26120" y="23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026120" y="2854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026120" y="361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026120" y="3997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026120" y="437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26120" y="2397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554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544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9120" y="3352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9480" y="3733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8400" y="41911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01028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1028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7320" y="4765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88040" y="51465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86600" y="5527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escripción general de termin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ñales de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: Bus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: Bus de datos 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ñale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: Habilitación de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E: Habilitación de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E: Habilitación de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ñales de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ST: Inicialización de las FSM de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SY: Circuito ocupado por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e: Terminales que definen el mod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20:15:16Z</dcterms:created>
  <dc:creator>René</dc:creator>
  <dc:description/>
  <dc:language>en-US</dc:language>
  <cp:lastModifiedBy>René</cp:lastModifiedBy>
  <dcterms:modified xsi:type="dcterms:W3CDTF">2007-12-29T01:33:03Z</dcterms:modified>
  <cp:revision>52</cp:revision>
  <dc:subject/>
  <dc:title>Estructuras digitales con FPGA</dc:title>
</cp:coreProperties>
</file>